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10A1-E5F9-4C02-814A-53E98B518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908F-9E7C-4EBD-A610-6AAB7253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DA7F-5341-4B19-8450-FBFA3C02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0C7F-7AF0-4362-9FA4-3FAAD6AC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123B-0806-4629-9583-4AD20E1A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AE97-17AD-4E7E-BF0C-EC2869E3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2DCF-6579-4DD9-A80D-30DB823EC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EBA3-E7B9-494C-91EE-A4237E502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BC92-3D1F-4219-8ABA-167A2886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2A05-FC22-4462-9D63-97E7D9CCB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FC24-B6C9-410D-B7E8-0929E698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9FD0-6AF5-455C-B6A0-ABDE1200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785D-4DC1-4123-B6A4-121BAA6B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5A7E-CF12-455A-A7B2-14011041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EC6-CDA1-41BD-9B35-BB748FF59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3A2-6328-49ED-8227-4F2B9EF5F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5539-DEBF-4153-A018-FFA27B3A5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D37-94F3-4EE2-A763-C4B1F13A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E14A-4CED-41E4-945E-A85116AC5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DEB-C30A-4EFA-AF93-429E7E19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1BC0-3163-4A77-A164-48078F3A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BCC-ADE3-4759-B31E-DA0A8ED3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C447-2874-4707-A944-C1C9C142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AE86-BFF7-4695-8FC0-453BA994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1CCD-0C08-478F-AABC-8B397ABE6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8C6-5429-48A8-9D3B-102B0DD93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91A6-EB15-4DEF-9B56-4407973B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7A78-CA1B-42C9-B544-EA5E6939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FDAB-6A9E-48B9-A3AE-4C8C0AB3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0A3B-4831-4BD4-BF4D-5D368B5F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60F-4562-489D-9DE8-D1F0E852C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75CD-95B4-49B1-B2C5-66A7161C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C1AB-9A63-4A46-96C9-457CBC62F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C3AF-E91E-4B0E-844F-891F924C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EE54-0598-4AEA-BF41-3F147709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8340-469E-4CA9-9CCD-590B999D1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A1A-6798-4EFC-9F5C-327DDD047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6F7B-3A8B-4E3A-A770-E1263624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C6DB-6123-4C72-9B3C-BA825EBE3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ED83-F40A-4565-8F67-720D55C1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DA9-3063-4091-B147-0B2370E9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167-5678-4A7B-9B24-0D55884C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84360" y="2514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268720"/>
            <a:ext cx="7772400" cy="325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’s a pity that things weren’t arranged so that an empty head, like an empty stomach,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ould not let us rest until we put something in it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Red Gray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6" name="Picture 3" descr="Library"/>
          <p:cNvPicPr/>
          <p:nvPr/>
        </p:nvPicPr>
        <p:blipFill>
          <a:blip r:embed="rId1"/>
          <a:stretch/>
        </p:blipFill>
        <p:spPr>
          <a:xfrm>
            <a:off x="685800" y="852480"/>
            <a:ext cx="7772400" cy="51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whole future of civilization depends upon what is read to children before they can read to themselves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John Jay Chapma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9" name="Picture 4" descr="michelle-obama-2008-norfolk-va2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Oh, magic hour, when a child first know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he can read printed words!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A Tree Grows in Brooklyn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, 1943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2" name="Picture 3" descr="girl_with-glasses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s a little girl, my greatest joy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as to lose myself in a book…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Arianna Stassinopoulos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5" name="Picture 3" descr="IDR_div_A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en I was about eight, I decided tha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most wonderful thing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next to a human being, was a book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Margaret Walker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8" name="Picture 3" descr="IDR_div_D"/>
          <p:cNvPicPr/>
          <p:nvPr/>
        </p:nvPicPr>
        <p:blipFill>
          <a:blip r:embed="rId1"/>
          <a:stretch/>
        </p:blipFill>
        <p:spPr>
          <a:xfrm>
            <a:off x="236232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My education was the liberty I had to read indiscriminately and all the time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 my eyes hanging out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Dylan Thomas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2070000"/>
            <a:ext cx="7772400" cy="34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hildren should spend less time completing workbooks and skill sheets..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re is little evidence that these activiti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re related to reading achievement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i="1" lang="en-US" sz="1600" spc="-1" strike="noStrike">
                <a:solidFill>
                  <a:srgbClr val="ffffff"/>
                </a:solidFill>
                <a:latin typeface="Georgia"/>
              </a:rPr>
              <a:t>Becoming a Nation of Readers: The Report of the Commission on Reading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ichard C. Anderson, Elfrieda H. Hiebert, Judith A. Scott, and Ian A.G. Wilkinson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1" name="Picture 3" descr="Head_sho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1558800"/>
            <a:ext cx="7772400" cy="405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…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amount of time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tudents spent in independent reading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as the best predictor of reading achievem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also the best predict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of the amount of gain in reading achievemen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made by students between second and fifth grade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Anderson, Wilson, and Fielding (1988) 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 would rather be a poor man in a garre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 plenty of book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an a king who did not love reading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Thomas B. Macaulay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5" name="Picture 3" descr="under_the_chair"/>
          <p:cNvPicPr/>
          <p:nvPr/>
        </p:nvPicPr>
        <p:blipFill>
          <a:blip r:embed="rId1"/>
          <a:stretch/>
        </p:blipFill>
        <p:spPr>
          <a:xfrm>
            <a:off x="533520" y="674640"/>
            <a:ext cx="8153280" cy="54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 man is known by the books he reads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Ralph Waldo Emerso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Obama young book"/>
          <p:cNvPicPr/>
          <p:nvPr/>
        </p:nvPicPr>
        <p:blipFill>
          <a:blip r:embed="rId1"/>
          <a:srcRect l="17152" t="0" r="37837" b="0"/>
          <a:stretch/>
        </p:blipFill>
        <p:spPr>
          <a:xfrm>
            <a:off x="1755720" y="0"/>
            <a:ext cx="2874960" cy="4191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Obama read"/>
          <p:cNvPicPr/>
          <p:nvPr/>
        </p:nvPicPr>
        <p:blipFill>
          <a:blip r:embed="rId2"/>
          <a:srcRect l="7470" t="20001" r="10506" b="4399"/>
          <a:stretch/>
        </p:blipFill>
        <p:spPr>
          <a:xfrm>
            <a:off x="5013360" y="2590920"/>
            <a:ext cx="34290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re are many little way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o enlarge your child's world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Love of books is the best of all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Jacqueline Kennedy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81" name="Picture 3" descr="girl_on_her_back"/>
          <p:cNvPicPr/>
          <p:nvPr/>
        </p:nvPicPr>
        <p:blipFill>
          <a:blip r:embed="rId1"/>
          <a:stretch/>
        </p:blipFill>
        <p:spPr>
          <a:xfrm>
            <a:off x="2895480" y="762120"/>
            <a:ext cx="34959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pleasure of all reading is doubled when one lives with another who shares the same books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Katherine Mansfield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obama reading"/>
          <p:cNvPicPr/>
          <p:nvPr/>
        </p:nvPicPr>
        <p:blipFill>
          <a:blip r:embed="rId1"/>
          <a:stretch/>
        </p:blipFill>
        <p:spPr>
          <a:xfrm>
            <a:off x="2284560" y="295200"/>
            <a:ext cx="4572000" cy="61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 real purpose of books is to trap the mind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nto doing its own thinking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Christopher Morley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7" name="On My Way Home.mp3" descr=""/>
          <p:cNvPicPr/>
          <p:nvPr/>
        </p:nvPicPr>
        <p:blipFill>
          <a:blip r:embed="rId1"/>
          <a:stretch/>
        </p:blipFill>
        <p:spPr>
          <a:xfrm>
            <a:off x="0" y="635004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nce each child reads only about six hundred books in the course of childhood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each book should nourish them in some way —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 new ideas, insight, humor, or vocabulary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Joan Aike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at a school thinks about its library is a measure of what it thinks about education.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Harold Howe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hen I discovered librarie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was like having Christmas every day.   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Jean Fritz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IDR_div_B"/>
          <p:cNvPicPr/>
          <p:nvPr/>
        </p:nvPicPr>
        <p:blipFill>
          <a:blip r:embed="rId1"/>
          <a:srcRect l="56260" t="14062" r="0" b="0"/>
          <a:stretch/>
        </p:blipFill>
        <p:spPr>
          <a:xfrm>
            <a:off x="2239920" y="304920"/>
            <a:ext cx="477036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y book that helps a child to form a habit of reading, to make reading one of his deep and continuing needs, is good for him.    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Maya Angelou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0" name="Picture 3" descr="boy_with_mystery"/>
          <p:cNvPicPr/>
          <p:nvPr/>
        </p:nvPicPr>
        <p:blipFill>
          <a:blip r:embed="rId1"/>
          <a:stretch/>
        </p:blipFill>
        <p:spPr>
          <a:xfrm>
            <a:off x="2438280" y="304920"/>
            <a:ext cx="4165560" cy="62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is not enough to simply teach children to read;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e have to give them something worth reading.  Something that will stretch their imaginations — something that will help them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make sense of their own liv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encourage them to reach out toward people whose lives are quite different from their ow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Katherine Patterson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rusting children and books is a revolutionary act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ooks are, after all, dangerous stuff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Leave a child alone with a book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you don’t know what might happen.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— Susan Ohania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4" name="Picture 5" descr="4 girls"/>
          <p:cNvPicPr/>
          <p:nvPr/>
        </p:nvPicPr>
        <p:blipFill>
          <a:blip r:embed="rId1"/>
          <a:stretch/>
        </p:blipFill>
        <p:spPr>
          <a:xfrm>
            <a:off x="254160" y="382680"/>
            <a:ext cx="8661240" cy="609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 cannot live without books.       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Thomas Jefferson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3000"/>
                            </p:stCondLst>
                            <p:childTnLst>
                              <p:par>
                                <p:cTn id="54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9" name="Picture 3" descr="Jerome+pals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77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Books are the carriers of civilization.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Without books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istory is silent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literature dumb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cience crippled,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ought and speculation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t a standstill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— Barbara W. Tuchma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36232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interrupts any doing, any ordinary activities,      no matter what they happen to be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ll thinking demands a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stop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-and-think.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Hannah Arend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IDR_div_F"/>
          <p:cNvPicPr/>
          <p:nvPr/>
        </p:nvPicPr>
        <p:blipFill>
          <a:blip r:embed="rId1"/>
          <a:stretch/>
        </p:blipFill>
        <p:spPr>
          <a:xfrm>
            <a:off x="279360" y="534960"/>
            <a:ext cx="8610480" cy="57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It is during independent reading that readers consolidate the skills and strategies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y have been taugh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and come to own them. 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 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Richard Allington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from_above"/>
          <p:cNvPicPr/>
          <p:nvPr/>
        </p:nvPicPr>
        <p:blipFill>
          <a:blip r:embed="rId1"/>
          <a:stretch/>
        </p:blipFill>
        <p:spPr>
          <a:xfrm>
            <a:off x="2209680" y="228600"/>
            <a:ext cx="4216680" cy="63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Kids not only need to read a lot but they need lots of books they can read right at their fingertip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ey also need access to books that entice them, attract them to reading. 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Georgia"/>
              </a:rPr>
              <a:t>—</a:t>
            </a: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 Richard L. Allington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3:27:45Z</dcterms:created>
  <dc:creator>Linda Rourke</dc:creator>
  <dc:description/>
  <dc:language>en-US</dc:language>
  <cp:lastModifiedBy>Linda Rourke</cp:lastModifiedBy>
  <dcterms:modified xsi:type="dcterms:W3CDTF">2011-06-16T22:46:53Z</dcterms:modified>
  <cp:revision>11</cp:revision>
  <dc:subject/>
  <dc:title>It’s a pity that things weren’t arranged so that an empty head, like an empty stomach, would not let us rest until we put something in it.   — Red Gray  </dc:title>
</cp:coreProperties>
</file>